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8D2-EDF3-40A6-A212-834D9759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AB8-7110-45F5-94B1-B4D42604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914-A08E-4B5B-8497-5E7FB5F1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E34-9F04-42CE-8617-D6C352CD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081B-B033-4650-9ABC-28EE991D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2657-27F7-478B-85E1-5251E3EC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6B35-C832-43F1-B0AB-00A8EFD7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AA6F-C2E1-481B-8C5F-8678A7FE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B33C-6FBE-4561-89F3-328DCF00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615D-C97F-4463-97EB-F4A23FA7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938C-350C-4BEE-841E-B3B131CC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670-552F-4F98-89ED-1C423693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F91C-FD2A-4EFE-ACBE-12C2A3FE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FBD2-F683-45B5-843B-1992238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00B7-1A54-4775-8D17-91E56688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99ED-A0AF-4469-B53D-E4E36B19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5B0-B30F-4054-8A56-3A8CFA8C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DE5-E352-4A50-9815-0CD1C6B2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0D3-417C-47B6-853A-ECE9E30B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46E-BF83-46E6-9DB1-7ADE38C0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80F-2CB2-4241-80A7-8FBBE799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3AC-58E8-49E3-B220-62FBFA33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15B-B2C1-4AC5-AC7F-C8EE7315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46F-D101-4B88-9E00-004D6F10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EF2D-8EB7-48E7-92D1-1C8D5580EF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D49B-A7B1-4CBA-BD12-BD91C21F7B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rtmouth.edu/~dcare/facts/clubdrugs.html" TargetMode="External"/><Relationship Id="rId2" Type="http://schemas.openxmlformats.org/officeDocument/2006/relationships/hyperlink" Target="http://www.sadd.org/newsletter/03newsspring.pdf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ub Dru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Kara Miller and Danielle Gard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371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798480"/>
            <a:ext cx="329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819520" y="10666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u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24920" y="3276720"/>
            <a:ext cx="39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; Danielle Gardiner and Kara Mi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ther information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ub Drugs look like prescription dru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victims of club drugs, don’t know they’re taking the drug EX: some drugs may be slipped into drink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aacce"/>
                </a:solidFill>
                <a:uFillTx/>
                <a:latin typeface="Arial"/>
                <a:hlinkClick r:id="rId1"/>
              </a:rPr>
              <a:t>www.dartmouth.edu/~dcare/facts/clubdrugs.htm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xt bo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aacce"/>
                </a:solidFill>
                <a:uFillTx/>
                <a:latin typeface="Arial"/>
                <a:hlinkClick r:id="rId2"/>
              </a:rPr>
              <a:t>http://www.sadd.org/newsletter/03newsspring.pd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7254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What is a Club Drug?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lub Drug is a drug commonly used at dance clubs and “rave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w Club Drugs are more widely availabl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look like prescription pi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What is it made of?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ub Drugs can be made by using household kitchen ingredients, however, other types of Club Drugs are made from a mixture of unknown produ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Harmful Affect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ngth and quality of Club Drugs are unpredictab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y Dangero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fects vary from person to per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de Effects include: Amnesia, Paranoia, Hallucination, increased heart rate and blood pressure, blurred vision, muscle tension, severe sweating and chills, nausea , increased body temperature, organ failure, decreased blood pressure, drowsiness, dizziness, confusion, memory loss, and even de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Methods of us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ken ora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be taken with a combination of many Club Dru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be taken with alcoh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xamples of club drugs: Ecstas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stasy (MDMA) (Also called XTC, X, Adam, Clarity, Love Drug, Georgia Home Boy, and G) Ecstasy is a combined Stimulant and Hallucino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Facts About Ecstasy: Drugs called “Ecstasy” often contain other substances besides MDMA that make them even more dangerou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xamples of Club Drugs: Rohypnol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ohypnol (Also called Roofies, Rophies, or Forget-me pill) Rohypnol is a CNS depress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facts about Rohypnol: Associated with “Date Rapes”; small doses can impair a user for up to 12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xamples of Club Drugs: GHB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HB (Gamma hydroxybutyrate) (Also Called grievous bodily Harm, G, or Liquid Ecstasy.) GHB is a CNS depressant; Also has anabolic (Body-building effect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Facts about GHB: Associated with “Date Rapes”; High doses may result in sleep, coma, or dea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xamples Of Club Drugs: Ketamin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tamine (Also called K, vitamin K, Cat Valium) Ketamine is a Hallucinoge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Facts about Ketamine: High doses may cause delirium and fatal respiratory proble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7:32:19Z</dcterms:created>
  <dc:creator>SETUP</dc:creator>
  <dc:description/>
  <dc:language>en-US</dc:language>
  <cp:lastModifiedBy>SETUP</cp:lastModifiedBy>
  <dcterms:modified xsi:type="dcterms:W3CDTF">2010-02-24T17:47:18Z</dcterms:modified>
  <cp:revision>3</cp:revision>
  <dc:subject/>
  <dc:title>Club Drugs</dc:title>
</cp:coreProperties>
</file>